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4C6-AA85-4EAB-9C8B-40ED9794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14A-499F-4123-93DA-6CD9552C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B9717-FE7A-4017-9A4A-6E78EC09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D6A5C-308C-4CC7-AADB-A2575B52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938A4-01C7-4153-95AC-6802BADC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679F6-B7FB-41E2-A5E0-BC214C2B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B16EF-A0BA-4DDD-A7E9-6290FE2B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4B2D2-D5F3-4BF2-9F18-DA2EC3F8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66C4D-A2C9-4083-AC0F-498D39F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8D6AD-4CCB-4F9F-8D88-67BCE73D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79A8C-90E0-4B77-8EBF-8FB78D37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073D4B-1017-4211-ABE1-00533A56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655-2D82-43AA-8205-93A6BE44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8F956A-F224-4349-8F02-7203568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C8079E-8EF2-4B29-BEC5-4177A8AD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3A6A42-D4F7-4593-9FDB-FE2AFC5A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4840D4-5513-44D2-90D2-15130181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C36225-0AAB-4ED2-8E3E-B0AD8CD8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3ACA20-16A3-4DE0-B6C0-27F34CC3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D4FAAE-622A-4A30-A7A8-E3385D54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7D26E4-710D-4C1F-ADC2-26B061A4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B2C109-6E93-4D1C-8389-5C929176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732DA0-0930-49F0-8280-DCB5FCDB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0AA-E494-4BE5-9EA7-27BC646C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3FF2A-4F2A-4AF5-A96D-A25B6947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15176-CCD6-4A94-9891-AD0EA65E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8A511-966D-4E85-8E10-C284F4FC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5DDF4-A04F-4F66-B4E7-D0F9B0EE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20187-6465-488C-B1DD-87BF188F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2B73D-04DD-419D-BC36-10568656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8FC20-6AFE-4E9D-B98D-2F5E620D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02848-9B69-402D-BF6E-070548A7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49D0C-54A6-47E1-9E14-F0F4B64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389A0-2375-407D-9419-A85AFA53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8CD3-E9A2-433D-ACE4-10291F77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F0392-2E33-4ABD-9BFA-1EB06E85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95F08-915A-4DDC-AC5C-313CF101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49FA8-5317-4D44-98C0-078CF202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96B40-99EF-4438-8F69-F68F6EF6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FFD8B-0BC2-4150-8179-4DB1E315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13577-32E4-46C8-BB1E-EA07AA29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95EEB-3818-465C-99AD-D4A7990A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FC4BA-7ACB-4532-A98F-982DE628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DB9CE-020E-40B6-B0AF-01470B45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02388-6896-4251-B738-45920D5E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E3DE-9883-41BC-97BE-E161EB6D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C629B-0A58-432A-AC29-8F77D414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CC863-22FC-4CA3-B0C4-EB5527C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34A9E-9CAB-43BE-878C-992D4D8B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B9DA5-3979-432C-93C7-7424D5E9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53BF5-4B9F-4DB4-9738-E978FED8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4FD739-3AA2-4E47-AAE3-ACE0A024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CBA17E-70BE-4222-B243-26BE22A6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E90527-9EF2-471A-9AEE-AB1A6B5B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FDD8CA-CCA9-4A11-B8C9-F6C710E3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D77EA2-894B-4F04-A844-A91F7756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BE97-4407-4643-AD18-5064B56A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7B9319-E76E-45FF-8756-A05E24E5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70FBC4-51B6-42EE-8A71-F04F4908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5B9A37-D70A-446E-A302-6D29FC9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CFD829-AD57-41ED-B0E0-E8CE995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DB1414-C593-4675-B994-5352B935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7E03A4-516F-4879-B00B-D09066EA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08CEF9-8A9A-4AD9-9C45-BE2AB177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18691-B4AB-46C0-9967-D96FACD9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27701-6D01-4A1C-92F1-4D0267CA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D4889-4DCF-4EDF-B7C8-31DCFB7E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6BE8-0EB5-4A04-B5E2-23564E94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D2C52-5CE9-4FB7-B6D0-C206D8AD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3FFFB-B50A-4627-88B4-C0B376D7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54D69-4CFD-47C1-B30A-DF148932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E978C-02AA-48C5-B00B-7C6D784C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28B94-4F83-445C-986D-06199063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B809E-970C-47A2-9B45-03405FB9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F7940-D2A2-4562-B463-6CC977AA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D8C2D-5150-4125-9F09-7B1E9A05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A6328-F563-480F-AAC1-E5A1203F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DE99-5CF4-4AEE-884A-30D681EE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0BC9-1C95-4BEF-99B0-D4AE36B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8DF8-AD71-4076-8B12-22366A70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0F2-092B-419C-B0C1-EA97814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E4F0-BA0C-4BFC-A5A7-D97BB07E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B1B5-88B8-4565-8A1D-3358A64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5230-4369-4533-932D-84BF066F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47AB-7379-435E-ABEE-78CD039A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6C3-B7BF-4065-A2C2-EB50B611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A230-163D-4B8E-80B7-0E79C40E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96CE-5BB6-4C56-97C6-7B8750A5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193D-3CFB-413A-9E2C-3A41FF8B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034C-6F78-4EC7-A24F-81157DC8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1E57-46FC-4CE5-B799-0225E0D2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352-4F34-4D85-A096-CF1B7015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E512-E76D-4CB1-9383-A151FB85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6600-3018-4754-A654-338E63E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2831-1951-4965-9DF9-3ABB23CF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07D8-9521-4B24-87D0-C492920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62F1-48A6-4683-B368-BAA62051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9E6C-FBE2-425B-AB4F-36551331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A87F-CC7C-45F7-9144-7EF8E161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198E-1378-4036-9FC4-9CC22DC5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C9D6-A919-48A5-9C6E-5EFE6DF2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6D8A8-FC39-4572-B1EF-A827FA4C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61D-BC6A-49A4-8C05-0FB0AF87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A9D7-BC3B-4468-84AD-A380AFD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3DF16-D44A-4B70-98DA-BC610AB2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2C546-27AE-4214-846F-072FE10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76010-2317-42ED-977B-850E555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0E86-8564-41B0-82D7-8BAAEB73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9F6C-4A68-416E-A314-FDBDD797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99CF-535C-448E-8E64-774F3E7A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DEB6-674B-4221-89AC-19A09131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2CA41-5592-4320-AE16-E5B5ABBB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AC260-1404-46C0-8211-E5DCCF42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DA3-8414-49AB-82D7-FEDF0C03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FB1D-CD85-4F1A-A66C-E09D4B4E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AA38E-0EA1-458B-AC26-59ADA52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02C05-58F4-4937-9FAC-B8B368C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517D-8A82-49FB-B12D-E1ABBD9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A3842-827D-4342-B295-463FCB7D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1588E-37BF-4361-B56D-D4D70D0C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1AFD3-34BA-4400-9511-8439105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5D296-4C89-4EB8-BAD2-22CFA651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DA3F8-05A7-4028-9723-2FDD20FF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3B860-443D-4F22-ADB0-81299F5D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625-01B4-4624-B910-4E586852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B522-7948-4EE9-BA22-1989826A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D5AE8-0E0A-4149-B59A-769B6035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33F4-CB36-4FFE-A48C-58FE992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7C65-B71E-424F-BD5F-0454DC2C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87EA-35CF-480C-954B-6B11095C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3B978-92F9-4695-A6A4-770A9E4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51C89-B921-4871-94A3-78C729C2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4708A-C3E3-463B-B1EC-2244ECD6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C4DD-5B04-4620-812C-975DD6C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0C41-56FD-421E-B610-80F5AEE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ECA-35ED-444B-8003-8106525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E891-479A-4317-84A1-AF0BDA67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9D8B1-5F84-4CB4-AAE5-60823C9F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73579-FE67-4D84-806A-55B891D3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C1A35-C4C9-4570-9B92-A3404A51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11D92-9DC0-4321-9984-8571E508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670F-B38A-4D7C-817D-3D47AF01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9685C-D338-4B4C-A8ED-EF847F7D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07DD8-0E55-4F34-BB5A-09482322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A983-C989-4687-AE8B-6776751F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71D5-941A-4211-BE9C-80A8BC4B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C5F-E9E6-4E2C-9940-BDF8956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550B2-C576-4B00-BA8D-422CB4F4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80E3D-8611-4D5C-8E4E-6BB4E938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F556-BE8B-499E-A645-6A76C962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951F5-6B21-4A69-AC22-41C045FD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18E4A-3C72-4F7B-A4EA-05A9363F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519D6-EB23-40A5-925B-2E5FE265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A0BE6E-6497-4CAB-8A64-25F090DD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08D78-15B6-4150-AE62-29A59BBF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9D282-3BFC-4EBA-A8BF-802C2583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4043B1-18F0-4F34-B91E-5ACE429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4A6-E807-4B00-886D-D114FF5B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3229A-CFA0-4718-8226-2E99778E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39637C-7BB2-45FD-A4FD-12574379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B2DF4F-D30D-4878-8229-AF6703BF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30CA6B-E483-4A89-B18A-B8C8F3A4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BDCD2-8B58-4757-824B-478D4101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08582-67E5-489C-A9D3-6A5050A6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4740B9-9A6A-4DD6-90E2-0B40705D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3A0F2-4A2A-424F-A899-73D59056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BD482-45F1-42EE-B285-561A8E98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AC233-901B-4384-B74F-DFC49BBB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E3B3-9F21-4BF8-85F8-219834DBB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6D4F-AF21-4A7D-9AB3-57ABE2FC7B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D488-87AD-420D-9554-4EA00D7D0C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D888-F22C-4826-A056-273BB9AC7B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2909-75D3-4031-B670-FBA48A5F6C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1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6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6E64-DE99-4A56-9BC4-676A2FDDAA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245C-128B-4D20-BBF6-661C4649F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0BF0-D245-4DD4-9110-F4F3626FEA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6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3E3E-1FA7-451E-8BE6-A5F5FA9851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38BD-E186-405F-94E7-B57FA0A5F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1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2E51-1B54-4F03-9A6C-5F11699C8C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98FD-2697-4717-973E-2DF458089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8C6A-E731-4A18-B01B-CD9C516F7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0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0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335-6DA4-4855-BD47-E9A25B7DB2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enc/nauka_i_tehnika/himiya/ZAGRYAZNENIE_OKRUZHAYUSHCHE_SREDI.html" TargetMode="External"/><Relationship Id="rId2" Type="http://schemas.openxmlformats.org/officeDocument/2006/relationships/hyperlink" Target="http://www.krugosvet.ru/enc/nauka_i_tehnika/himiya/ZAGRYAZNENIE_OKRUZHAYUSHCHE_SREDI.html" TargetMode="External"/><Relationship Id="rId3" Type="http://schemas.openxmlformats.org/officeDocument/2006/relationships/hyperlink" Target="http://www.krugosvet.ru/enc/nauka_i_tehnika/himiya/ZAGRYAZNENIE_OKRUZHAYUSHCHE_SREDI.html" TargetMode="External"/><Relationship Id="rId4" Type="http://schemas.openxmlformats.org/officeDocument/2006/relationships/hyperlink" Target="http://www.krugosvet.ru/enc/nauka_i_tehnika/himiya/ZAGRYAZNENIE_OKRUZHAYUSHCHE_SREDI.html" TargetMode="External"/><Relationship Id="rId5" Type="http://schemas.openxmlformats.org/officeDocument/2006/relationships/hyperlink" Target="http://www.krugosvet.ru/enc/nauka_i_tehnika/himiya/ZAGRYAZNENIE_OKRUZHAYUSHCHE_SREDI.html" TargetMode="External"/><Relationship Id="rId6" Type="http://schemas.openxmlformats.org/officeDocument/2006/relationships/hyperlink" Target="http://www.krugosvet.ru/enc/nauka_i_tehnika/himiya/ZAGRYAZNENIE_OKRUZHAYUSHCHE_SREDI.html" TargetMode="External"/><Relationship Id="rId7" Type="http://schemas.openxmlformats.org/officeDocument/2006/relationships/hyperlink" Target="http://www.krugosvet.ru/enc/nauka_i_tehnika/himiya/ZAGRYAZNENIE_OKRUZHAYUSHCHE_SREDI.html" TargetMode="External"/><Relationship Id="rId8" Type="http://schemas.openxmlformats.org/officeDocument/2006/relationships/hyperlink" Target="http://www.krugosvet.ru/enc/nauka_i_tehnika/himiya/ZAGRYAZNENIE_OKRUZHAYUSHCHE_SREDI.html" TargetMode="External"/><Relationship Id="rId9" Type="http://schemas.openxmlformats.org/officeDocument/2006/relationships/hyperlink" Target="http://www.krugosvet.ru/enc/nauka_i_tehnika/himiya/ZAGRYAZNENIE_OKRUZHAYUSHCHE_SREDI.html" TargetMode="External"/><Relationship Id="rId10" Type="http://schemas.openxmlformats.org/officeDocument/2006/relationships/hyperlink" Target="http://www.krugosvet.ru/enc/nauka_i_tehnika/himiya/ZAGRYAZNENIE_OKRUZHAYUSHCHE_SREDI.html" TargetMode="External"/><Relationship Id="rId11" Type="http://schemas.openxmlformats.org/officeDocument/2006/relationships/hyperlink" Target="http://www.krugosvet.ru/enc/nauka_i_tehnika/himiya/ZAGRYAZNENIE_OKRUZHAYUSHCHE_SREDI.html" TargetMode="External"/><Relationship Id="rId1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10199"/>
                </a:solidFill>
                <a:latin typeface="Monotype Corsiva"/>
              </a:rPr>
              <a:t>Как изменяется влажность  и температурный режим в  рабочих помещениях и как защититься от их неблагоприятного воздейств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ков Серг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к 10 «а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ыктывк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ь нашего исследов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Monotype Corsiva"/>
              </a:rPr>
              <a:t>Выяснить причины изменения влажности и температурного режима в рабочих помещения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адачи нашего исследов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америть температуру в помещени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авнить с температурой, которая предписана в правилах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ссмотреть меры борьбы с неблагоприятным воздействием этих температур на организм челове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ормы температур для рабочего поме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455760" y="1598760"/>
          <a:ext cx="8226000" cy="4496760"/>
        </p:xfrm>
        <a:graphic>
          <a:graphicData uri="http://schemas.openxmlformats.org/drawingml/2006/table">
            <a:tbl>
              <a:tblPr/>
              <a:tblGrid>
                <a:gridCol w="2741760"/>
                <a:gridCol w="2742480"/>
                <a:gridCol w="2741760"/>
              </a:tblGrid>
              <a:tr h="14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ериод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птимальная температура воздух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опустимая температура воздух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лодный период(среднесуточная температура наружного воздуха +10гр С, и ниж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6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С до 24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3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 до 25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плый период( от +10градусов и выш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 18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С до 25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5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до 28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рафик соотношения относительной влажности и самочувствия гражд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1693800" y="2722680"/>
            <a:ext cx="569124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висимость основных факторов, влияющих на здоровье и самочувствие люде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755640" y="2085840"/>
            <a:ext cx="72644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Относительная влажность воздуха - важный экологический показатель среды. При слишком низкой или слишком высокой влажности наблюдается быстрая утомляемость человека, ухудшение восприятия и памяти. Продукты питания, строительные материалы и даже многие электронные компоненты допускается хранить в строго определённом диапазоне относительной влажности воздуха. Многие технологические процессы возможны только при строгом контроле содержания паров воды в воздухе производственного поме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тер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krugosvet.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enc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nauka_i_tehnik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himiy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ZAGRYAZNENIE_OKRUZHAYUSHCHE_SREDI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http://slovari.yandex.ru/dict/krugosvet/article/6/68/1011616.ht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http://ru.wikipedia.org/wiki/%D0%AD%D0%BD%D0%B2%D0%B0%D0%B9%D1%80%D0%BE%D0%BD%D0%BC%D0%B5%D0%BD%D1%82%D0%BE%D0%BB%D0%BE%D0%B3%D0%B8%D1%8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02:22Z</dcterms:created>
  <dc:creator>User</dc:creator>
  <dc:description/>
  <dc:language>en-US</dc:language>
  <cp:lastModifiedBy>User</cp:lastModifiedBy>
  <dcterms:modified xsi:type="dcterms:W3CDTF">2009-11-21T14:25:45Z</dcterms:modified>
  <cp:revision>4</cp:revision>
  <dc:subject/>
  <dc:title>Как изменяется влажность  и температурный режим в  рабочих помещениях и как защититься от их неблагополучного воздействия?</dc:title>
</cp:coreProperties>
</file>